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271D-CA5F-4CCA-AD83-58BA6CB81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D854-EF6C-42BD-A613-7FF4EB8B4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01DD-C660-42CC-A398-4B4891EC1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E55B-6F05-4E09-8593-58BCDF6C8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90FC-FDC3-4A69-ADB3-A0D7F3E68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04BD-5366-4117-B612-B95EE4774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1F9C-E559-4DF9-B029-E12548F0B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EDDA-9AA2-40F0-81FA-519C9CB11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121D-372F-4879-B9F4-381A8EA68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973C-2AB5-464D-B114-E0EB6ABD7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627E-6567-420F-A4EB-B7A0E1B2D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1223-9B6F-4682-AEEC-47FC9868E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77F7-78D8-48D3-921F-E34576832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83D0-90B9-43F2-A8AB-5E2BA621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DDBF-1FA6-4137-8007-1FF72C3A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74AA-3AF7-40F8-9E27-BFC68C3C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CCB2-796C-4F8D-93A1-2620DFF6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3A4A-D4EF-4474-AC78-6A88CA3B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7866-4BCF-43B4-828C-1A827C7C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F2A8-727A-4FA8-8089-EC7F0ED6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6060-2C99-477D-B1FF-4CA49610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3500-4A42-4144-BC52-E8CCC1AA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9981-24C3-42AE-91B7-75DE5F12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8C9D-77D5-4FD5-883B-8CE1F1EA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C827-569D-4CDD-A64A-A5B3BEC7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BE2F-F86E-411F-A6CA-C1AE77C3B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80880" y="1066680"/>
            <a:ext cx="8458200" cy="556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0240" indent="-66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Other REALLY Bad things that were happ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)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968 Democratic National Con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testors rioted = demanded future president withdraw troo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bby Kennedy is assassin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)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ntagon Papers are Published (1970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,000 page doc = details that prove America is lying to us about the war and other th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80880" y="228600"/>
            <a:ext cx="8229600" cy="6094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3:  America Protest! (1962-197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23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467480" cy="593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j0222019"/>
          <p:cNvPicPr/>
          <p:nvPr/>
        </p:nvPicPr>
        <p:blipFill>
          <a:blip r:embed="rId2"/>
          <a:stretch/>
        </p:blipFill>
        <p:spPr>
          <a:xfrm>
            <a:off x="7620120" y="5638680"/>
            <a:ext cx="8143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2438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The Vietnam War</a:t>
            </a:r>
            <a:br>
              <a:rPr sz="44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art 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The Final Days of Wa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1968-197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720" y="3048120"/>
            <a:ext cx="7162560" cy="358128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war 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lessons learned from Vietn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vert"/>
          <p:cNvPicPr/>
          <p:nvPr/>
        </p:nvPicPr>
        <p:blipFill>
          <a:blip r:embed="rId2"/>
          <a:srcRect l="0" t="0" r="4913" b="-1071"/>
          <a:stretch/>
        </p:blipFill>
        <p:spPr>
          <a:xfrm>
            <a:off x="3581280" y="1905120"/>
            <a:ext cx="1905120" cy="2209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2395-2-photo"/>
          <p:cNvPicPr/>
          <p:nvPr/>
        </p:nvPicPr>
        <p:blipFill>
          <a:blip r:embed="rId3"/>
          <a:srcRect l="0" t="0" r="0" b="11280"/>
          <a:stretch/>
        </p:blipFill>
        <p:spPr>
          <a:xfrm>
            <a:off x="6726240" y="4114800"/>
            <a:ext cx="2050920" cy="2362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http://www.americaslibrary.gov/assets/aa/king/aa_king_selma_2_e.jpg"/>
          <p:cNvPicPr/>
          <p:nvPr/>
        </p:nvPicPr>
        <p:blipFill>
          <a:blip r:embed="rId4"/>
          <a:srcRect l="0" t="0" r="0" b="16449"/>
          <a:stretch/>
        </p:blipFill>
        <p:spPr>
          <a:xfrm>
            <a:off x="5257800" y="609480"/>
            <a:ext cx="1806480" cy="22100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609480" y="0"/>
            <a:ext cx="7848720" cy="5634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)  U.S.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ARL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vol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5"/>
          <a:srcRect l="12909" t="0" r="9677" b="0"/>
          <a:stretch/>
        </p:blipFill>
        <p:spPr>
          <a:xfrm>
            <a:off x="228600" y="4572000"/>
            <a:ext cx="1666800" cy="2014560"/>
          </a:xfrm>
          <a:prstGeom prst="rect">
            <a:avLst/>
          </a:prstGeom>
          <a:ln w="0">
            <a:noFill/>
          </a:ln>
        </p:spPr>
      </p:pic>
      <p:sp>
        <p:nvSpPr>
          <p:cNvPr id="58" name="Line 8"/>
          <p:cNvSpPr/>
          <p:nvPr/>
        </p:nvSpPr>
        <p:spPr>
          <a:xfrm flipV="1">
            <a:off x="457200" y="2133720"/>
            <a:ext cx="6248520" cy="4495680"/>
          </a:xfrm>
          <a:prstGeom prst="line">
            <a:avLst/>
          </a:prstGeom>
          <a:ln w="82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7315200" y="2133720"/>
            <a:ext cx="762120" cy="1904760"/>
          </a:xfrm>
          <a:prstGeom prst="line">
            <a:avLst/>
          </a:prstGeom>
          <a:ln w="954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0"/>
          <p:cNvSpPr/>
          <p:nvPr/>
        </p:nvSpPr>
        <p:spPr>
          <a:xfrm>
            <a:off x="7238880" y="1066680"/>
            <a:ext cx="106704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5181480" y="2438280"/>
            <a:ext cx="106704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2"/>
          <p:cNvSpPr/>
          <p:nvPr/>
        </p:nvSpPr>
        <p:spPr>
          <a:xfrm>
            <a:off x="8077320" y="5791320"/>
            <a:ext cx="1066680" cy="83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209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8 = Nixon wins the Presid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 Promise was to withdraw troops from Vietn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80880" y="228600"/>
            <a:ext cx="8229600" cy="6094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4: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ix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al Days of War (1968-19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457200" y="4114800"/>
            <a:ext cx="8229600" cy="222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y 1968, the nation is di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eople who wanted the US to withdraw from Viet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w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eople who wanted the US to stay and f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380880" y="1066680"/>
            <a:ext cx="8382240" cy="556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"/>
              </a:rPr>
              <a:t>What is the Gov saying:</a:t>
            </a:r>
            <a:r>
              <a:rPr b="1" lang="en-US" sz="2800" spc="-1" strike="noStrike">
                <a:solidFill>
                  <a:srgbClr val="000000"/>
                </a:solidFill>
                <a:latin typeface="Boopee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Westmoreland claims Vietcong is weakening</a:t>
            </a:r>
            <a:r>
              <a:rPr b="1" lang="en-US" sz="2800" spc="-1" strike="noStrike">
                <a:solidFill>
                  <a:srgbClr val="000000"/>
                </a:solidFill>
                <a:latin typeface="Boope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ut, in Realit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6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North Vietnamese &amp; Vietcong launch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ajor attack on South Vietnam called th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t Offensive (Jan. 30, 196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Year’s Eve, N.V Vietcong invades 30 S.V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tcong lost, but looked really bad for the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ING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80880" y="228600"/>
            <a:ext cx="8229600" cy="6094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4: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ix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al Days of War (1968-19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j0222019"/>
          <p:cNvPicPr/>
          <p:nvPr/>
        </p:nvPicPr>
        <p:blipFill>
          <a:blip r:embed="rId1"/>
          <a:stretch/>
        </p:blipFill>
        <p:spPr>
          <a:xfrm>
            <a:off x="7620120" y="5638680"/>
            <a:ext cx="814320" cy="81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560" y="1066680"/>
            <a:ext cx="8305560" cy="5486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68 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nry Kissi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National Security Advisor for Nix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xon &amp; Kissi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ietnam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lan to gradually withdraw American tr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3 yrs = 500,000 troops to about 25,000 troo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72 El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Kissinger announces “Peace is at Hand” = people agree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elect Nix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80880" y="228600"/>
            <a:ext cx="8229600" cy="6094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4: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ix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al Days of War (1968-19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j0222019"/>
          <p:cNvPicPr/>
          <p:nvPr/>
        </p:nvPicPr>
        <p:blipFill>
          <a:blip r:embed="rId1"/>
          <a:stretch/>
        </p:blipFill>
        <p:spPr>
          <a:xfrm>
            <a:off x="7620120" y="5638680"/>
            <a:ext cx="814320" cy="81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457200" y="1066680"/>
            <a:ext cx="8381880" cy="556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197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= Cease-Fire signed by both s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USA starts to withdraw troo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But…in the e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pril 30, 1974 = The Fall of Sai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rth Vietnam invades and takes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eration Frequent Wi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UN tires to rescue S.V civilians so N.V won’t kill them for being trai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oday Vietnam is reunited and… Communi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80880" y="228600"/>
            <a:ext cx="8229600" cy="6094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4:  The Final Days of War (1968-197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0" y="0"/>
            <a:ext cx="4341960" cy="6858000"/>
            <a:chOff x="0" y="0"/>
            <a:chExt cx="4341960" cy="6858000"/>
          </a:xfrm>
        </p:grpSpPr>
        <p:pic>
          <p:nvPicPr>
            <p:cNvPr id="75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341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Oval 6"/>
            <p:cNvSpPr/>
            <p:nvPr/>
          </p:nvSpPr>
          <p:spPr>
            <a:xfrm>
              <a:off x="2514600" y="5562360"/>
              <a:ext cx="1295280" cy="6858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3505320" y="1066680"/>
            <a:ext cx="5638680" cy="426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gacy of Vietna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114800" cy="556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990360"/>
            <a:ext cx="4038480" cy="556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etnam Memorial in D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391160" cy="554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3:08:18Z</dcterms:created>
  <dc:creator>IT Department</dc:creator>
  <dc:description/>
  <dc:language>en-US</dc:language>
  <cp:lastModifiedBy>Administrator</cp:lastModifiedBy>
  <dcterms:modified xsi:type="dcterms:W3CDTF">2013-04-10T17:01:10Z</dcterms:modified>
  <cp:revision>12</cp:revision>
  <dc:subject/>
  <dc:title>The Vietnam War Part 4: The Final Days of War (1968-1975)</dc:title>
</cp:coreProperties>
</file>